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08A9-5AA5-4047-AF28-1FF0F5A64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C6DF-8B01-426C-AB19-C47C8D3C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1BB4-8B12-4AE5-9A13-13F5E78CE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69D6-5CE0-465F-A70E-A1BE5BB9F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0BE1-F0CD-4111-92D9-42853853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E2E1-9317-4801-8542-EF767733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7332-0F2B-43E0-BF04-84BF493C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D5D2-7E99-4E39-9133-EFAC4D19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335A-1E2B-4EB2-8D9A-27FDB35F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4A77-48AC-45C3-9A6B-EFC1FBA8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D4ED-4A52-4784-9E75-1D702A08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3252-1DC3-4672-A130-5D50E80C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0904-DCFA-447A-8A70-18746B98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D706-08BA-454F-ACC3-39A90079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2139-538A-4A67-8662-27D79853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CE71-F0CA-465A-B07E-DD60CB6E2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A4AD-BECD-4AA5-A991-6A60D00BA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5DBF-8CF9-4A94-A0FA-E2BB7D46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D046-EF3D-4DCB-A778-34666867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5E6F-63A4-4590-A85C-863EAAB4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AE04-3425-49E5-8959-2A86EDC9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0487-2252-4E04-AA16-C6C8AA9A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E68D-8BEA-4043-AC8A-A0273A42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97F2-9F5B-4D6F-B87A-FAD4E459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875C-C8A8-4270-91C4-E065D868792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74BE-1D37-49A7-A1DD-6CB658CB204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English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Oct. 7, 2009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O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ebate-Should Victor go on with his life, or suffer for what he has done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ad ch. 9, discussion question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ave an AR book by Frida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O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Your odds of appering on the Tonight Show are one in 490,000 your odds of being killed in a plane crash are one in 11 million your odds of winning the reader’s digest sweepstakes are one in two hundred thirteen million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hip:bridge:: ________:cockpi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Eloquent:words:: nimble:___________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mewor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ad Ch. 1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iscussion questi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8:43:53Z</dcterms:created>
  <dc:creator>VMS</dc:creator>
  <dc:description/>
  <dc:language>en-US</dc:language>
  <cp:lastModifiedBy>VMS</cp:lastModifiedBy>
  <dcterms:modified xsi:type="dcterms:W3CDTF">2009-10-07T18:46:09Z</dcterms:modified>
  <cp:revision>1</cp:revision>
  <dc:subject/>
  <dc:title>English</dc:title>
</cp:coreProperties>
</file>